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088-1875-48B8-9C55-EAD22B61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428-D143-4E32-BA58-C882763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D2F-3472-4DBA-A5C6-9ED46DD3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1D6-66BA-4C7E-8AD1-180C5271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1E4-7708-48F9-BC91-6FB2C4D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113-9172-429B-B0A0-8B98A4E1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3BB-3CA4-4AA2-BDE6-6167712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269-6FE4-49CD-AD27-760F299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44F-FA94-414B-8687-69EB25F9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A41-E35B-4EE4-B0E9-C57A3E3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89-2178-4CC2-9EDD-011C41E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1B1-60FC-4D72-96E2-D59A5A2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5CC-8848-4D5C-BBC9-6A906D2D1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22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492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1796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56000" y="2492280"/>
                <a:ext cx="8143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22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1796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0920" y="2492280"/>
                <a:ext cx="8143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7056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67640" y="2492280"/>
                <a:ext cx="9619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1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2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73000" y="4869000"/>
                <a:ext cx="962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2268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40040" y="2492280"/>
                <a:ext cx="1036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98168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26080" y="2492280"/>
                <a:ext cx="11840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1:31:00Z</dcterms:created>
  <dc:creator>joao da silva</dc:creator>
  <dc:description/>
  <dc:language>en-US</dc:language>
  <cp:lastModifiedBy>joao da silva</cp:lastModifiedBy>
  <dcterms:modified xsi:type="dcterms:W3CDTF">2005-08-29T21:38:44Z</dcterms:modified>
  <cp:revision>2</cp:revision>
  <dc:subject/>
  <dc:title>Slide 1</dc:title>
</cp:coreProperties>
</file>