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DB3F-7D09-4E88-9277-D7B580E3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B6C-BE77-43F5-8AE2-90E80A9A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C44-3E16-45FB-86C8-41B983C5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07B-8E49-4986-BD0A-4DA098E8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1C8-0E06-4DBE-B1D4-FA338E26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C00-7F25-4986-8E39-9BF7857E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9A1-7810-4D26-B58B-EED28658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DE96-B4A5-43EE-87A5-962D2E40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9BF-CC7E-4C89-8E14-C835BE5A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F6C-E0F6-431A-A30B-B8A5656F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DE1-A079-42F7-854B-F9CE0231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65B-0775-4990-9E6C-D84DDDF7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C8DE-03D9-4D53-8034-1DE491C88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0920" y="1008000"/>
            <a:ext cx="8784720" cy="4656960"/>
            <a:chOff x="250920" y="1008000"/>
            <a:chExt cx="8784720" cy="4656960"/>
          </a:xfrm>
        </p:grpSpPr>
        <p:sp>
          <p:nvSpPr>
            <p:cNvPr id="42" name=""/>
            <p:cNvSpPr/>
            <p:nvPr/>
          </p:nvSpPr>
          <p:spPr>
            <a:xfrm>
              <a:off x="606600" y="2162160"/>
              <a:ext cx="1596240" cy="1596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18900000">
              <a:off x="7259400" y="1629720"/>
              <a:ext cx="1064160" cy="1064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6283080" y="4380480"/>
              <a:ext cx="1064160" cy="1064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3871080" y="1305000"/>
              <a:ext cx="1629360" cy="2452680"/>
              <a:chOff x="3871080" y="1305000"/>
              <a:chExt cx="1629360" cy="2452680"/>
            </a:xfrm>
          </p:grpSpPr>
          <p:sp>
            <p:nvSpPr>
              <p:cNvPr id="46" name=""/>
              <p:cNvSpPr/>
              <p:nvPr/>
            </p:nvSpPr>
            <p:spPr>
              <a:xfrm>
                <a:off x="3889080" y="2161800"/>
                <a:ext cx="1595520" cy="1595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2700000">
                <a:off x="4109400" y="1543680"/>
                <a:ext cx="1152360" cy="1152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6639480" y="1008000"/>
              <a:ext cx="2396160" cy="1154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250920" y="1185840"/>
                  <a:ext cx="2306160" cy="62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701800" y="2320560"/>
              <a:ext cx="625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19200" y="2322360"/>
              <a:ext cx="625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4339080" y="1185840"/>
                  <a:ext cx="694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7331760" y="1185840"/>
                  <a:ext cx="73116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694800" y="4187160"/>
                  <a:ext cx="1447200" cy="104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889080" y="4177080"/>
                  <a:ext cx="1595880" cy="106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2736000" y="4024800"/>
              <a:ext cx="625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7048440" y="4091040"/>
                  <a:ext cx="1630800" cy="98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6019200" y="4026240"/>
              <a:ext cx="625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3T01:02:19Z</dcterms:created>
  <dc:creator>joao da silva</dc:creator>
  <dc:description/>
  <dc:language>en-US</dc:language>
  <cp:lastModifiedBy>joao da silva</cp:lastModifiedBy>
  <dcterms:modified xsi:type="dcterms:W3CDTF">2005-08-13T01:23:59Z</dcterms:modified>
  <cp:revision>3</cp:revision>
  <dc:subject/>
  <dc:title>Slide 1</dc:title>
</cp:coreProperties>
</file>