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77E-9251-4D0D-9DA5-4D859C2A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DBB-D4AA-4DD5-A72A-E1DF930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4D9-0B24-4DFB-9A8A-71E86C15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DFF-BFDA-4427-9E10-D041CAD6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93F-52F4-4C5D-9F48-D7483481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122-80A3-429A-957D-254710D7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14C-16BB-4CDB-AEEA-E02E84A2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6A2-6A17-4562-A60B-C2089AED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522-B114-47E2-ACB5-ED26372B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96D-39B8-446F-A8DC-EA0458AD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1F4-F3A9-4374-B1C0-E83B71B4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4ED-44C8-4B02-921F-D20B0869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ACBD-C309-44E9-AF73-9920232BB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042920" y="3429000"/>
            <a:ext cx="3889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932360" y="549000"/>
            <a:ext cx="2158920" cy="287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74360" y="4581000"/>
            <a:ext cx="1710000" cy="1584360"/>
            <a:chOff x="774360" y="4581000"/>
            <a:chExt cx="1710000" cy="1584360"/>
          </a:xfrm>
        </p:grpSpPr>
        <p:sp>
          <p:nvSpPr>
            <p:cNvPr id="44" name=""/>
            <p:cNvSpPr/>
            <p:nvPr/>
          </p:nvSpPr>
          <p:spPr>
            <a:xfrm flipH="1" flipV="1">
              <a:off x="774360" y="4581000"/>
              <a:ext cx="1908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9920" y="6151320"/>
              <a:ext cx="168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320560" y="543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1080" y="4192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75200" y="3457440"/>
            <a:ext cx="2879640" cy="215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140000" y="3429000"/>
            <a:ext cx="388908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2708280"/>
            <a:ext cx="334800" cy="720720"/>
          </a:xfrm>
          <a:custGeom>
            <a:avLst/>
            <a:gdLst/>
            <a:ahLst/>
            <a:rect l="l" t="t" r="r" b="b"/>
            <a:pathLst>
              <a:path w="211" h="499">
                <a:moveTo>
                  <a:pt x="181" y="499"/>
                </a:moveTo>
                <a:cubicBezTo>
                  <a:pt x="196" y="381"/>
                  <a:pt x="211" y="264"/>
                  <a:pt x="181" y="181"/>
                </a:cubicBezTo>
                <a:cubicBezTo>
                  <a:pt x="151" y="98"/>
                  <a:pt x="23" y="23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200200">
            <a:off x="5837040" y="3443400"/>
            <a:ext cx="360360" cy="649080"/>
          </a:xfrm>
          <a:custGeom>
            <a:avLst/>
            <a:gdLst/>
            <a:ahLst/>
            <a:rect l="l" t="t" r="r" b="b"/>
            <a:pathLst>
              <a:path w="211" h="499">
                <a:moveTo>
                  <a:pt x="181" y="499"/>
                </a:moveTo>
                <a:cubicBezTo>
                  <a:pt x="196" y="381"/>
                  <a:pt x="211" y="264"/>
                  <a:pt x="181" y="181"/>
                </a:cubicBezTo>
                <a:cubicBezTo>
                  <a:pt x="151" y="98"/>
                  <a:pt x="23" y="23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3680" y="2604960"/>
            <a:ext cx="7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3120" y="3645000"/>
            <a:ext cx="7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050920" y="1916280"/>
                <a:ext cx="9781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932360" y="765000"/>
                <a:ext cx="115560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248440" y="4176720"/>
                <a:ext cx="10666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02:37:29Z</dcterms:created>
  <dc:creator>joao da silva</dc:creator>
  <dc:description/>
  <dc:language>en-US</dc:language>
  <cp:lastModifiedBy>joao da silva</cp:lastModifiedBy>
  <dcterms:modified xsi:type="dcterms:W3CDTF">2005-08-13T02:53:19Z</dcterms:modified>
  <cp:revision>3</cp:revision>
  <dc:subject/>
  <dc:title>Slide 1</dc:title>
</cp:coreProperties>
</file>