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EE9-24CF-4AC4-918D-533688B2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FA3-288C-464D-BC6F-8212979A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083-CDB2-4F62-BC80-0D89C6C6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9D5-3DD5-4C07-89F9-46D58F04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2C6-729B-4FB4-8F1D-105EF67A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431-24D1-47BE-A654-70A857D7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09C-5BE9-42DB-8A24-839057CA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62B-DBAD-447B-8824-3EB50436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F02-A904-4EFD-845D-F48BCA21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91C-8B84-44F2-AD33-DE5B6FD6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2F8-AB42-4EE8-A0D5-D9D7B7A7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BD4-1C09-4FEE-B9DD-A91580F4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16EB-7D75-44FC-BEFD-9BAB0C347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042920" y="3429000"/>
            <a:ext cx="38894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932360" y="549000"/>
            <a:ext cx="2158920" cy="287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74360" y="4581000"/>
            <a:ext cx="1710000" cy="1584360"/>
            <a:chOff x="774360" y="4581000"/>
            <a:chExt cx="1710000" cy="1584360"/>
          </a:xfrm>
        </p:grpSpPr>
        <p:sp>
          <p:nvSpPr>
            <p:cNvPr id="44" name=""/>
            <p:cNvSpPr/>
            <p:nvPr/>
          </p:nvSpPr>
          <p:spPr>
            <a:xfrm flipH="1" flipV="1">
              <a:off x="774360" y="4581000"/>
              <a:ext cx="19080" cy="15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9920" y="6151320"/>
              <a:ext cx="168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320560" y="543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1080" y="4192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75200" y="3457440"/>
            <a:ext cx="2879640" cy="215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140000" y="3429000"/>
            <a:ext cx="388908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2708280"/>
            <a:ext cx="334800" cy="720720"/>
          </a:xfrm>
          <a:custGeom>
            <a:avLst/>
            <a:gdLst/>
            <a:ahLst/>
            <a:rect l="l" t="t" r="r" b="b"/>
            <a:pathLst>
              <a:path w="211" h="499">
                <a:moveTo>
                  <a:pt x="181" y="499"/>
                </a:moveTo>
                <a:cubicBezTo>
                  <a:pt x="196" y="381"/>
                  <a:pt x="211" y="264"/>
                  <a:pt x="181" y="181"/>
                </a:cubicBezTo>
                <a:cubicBezTo>
                  <a:pt x="151" y="98"/>
                  <a:pt x="23" y="23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200200">
            <a:off x="5837040" y="3443400"/>
            <a:ext cx="360360" cy="649080"/>
          </a:xfrm>
          <a:custGeom>
            <a:avLst/>
            <a:gdLst/>
            <a:ahLst/>
            <a:rect l="l" t="t" r="r" b="b"/>
            <a:pathLst>
              <a:path w="211" h="499">
                <a:moveTo>
                  <a:pt x="181" y="499"/>
                </a:moveTo>
                <a:cubicBezTo>
                  <a:pt x="196" y="381"/>
                  <a:pt x="211" y="264"/>
                  <a:pt x="181" y="181"/>
                </a:cubicBezTo>
                <a:cubicBezTo>
                  <a:pt x="151" y="98"/>
                  <a:pt x="23" y="23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3680" y="2604960"/>
            <a:ext cx="7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3120" y="3645000"/>
            <a:ext cx="7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050920" y="1916280"/>
                <a:ext cx="9781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932360" y="765000"/>
                <a:ext cx="115560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248440" y="4176720"/>
                <a:ext cx="10666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02:37:29Z</dcterms:created>
  <dc:creator>joao da silva</dc:creator>
  <dc:description/>
  <dc:language>en-US</dc:language>
  <cp:lastModifiedBy>joao da silva</cp:lastModifiedBy>
  <dcterms:modified xsi:type="dcterms:W3CDTF">2005-08-13T02:53:19Z</dcterms:modified>
  <cp:revision>3</cp:revision>
  <dc:subject/>
  <dc:title>Slide 1</dc:title>
</cp:coreProperties>
</file>