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69A-3090-4239-86EA-3789DCDF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705-0684-4E6B-8691-62861CE2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B50-2EB0-48F6-B152-FB08D3D4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AC2-F03E-46E3-9AC5-A8991528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DCA-F5EB-4142-AD3F-A7AEF423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D7B-634A-4D55-9A31-9115DF33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B9F-C0C1-438F-92C3-733032F1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8DA-60A9-4B55-928C-4A404B37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3D8-B56D-4091-9EA0-C0FAB8D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A12-18D3-4FF5-9453-A272F211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A54-90B5-4807-9A81-0317552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37C-7BD7-4734-AF4A-1DD395E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EF9B-3258-4FD8-A863-6EBC3520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558800"/>
            <a:ext cx="360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67280" y="5445000"/>
            <a:ext cx="36734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127160"/>
            <a:ext cx="863640" cy="863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5013360"/>
            <a:ext cx="863280" cy="863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3080" y="17748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30160" y="5661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60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02880" y="4006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1557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544500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5800" y="429264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5813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4720" y="47628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765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55736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6200" y="3141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59280" y="115920"/>
            <a:ext cx="865080" cy="5040360"/>
            <a:chOff x="3059280" y="115920"/>
            <a:chExt cx="865080" cy="5040360"/>
          </a:xfrm>
        </p:grpSpPr>
        <p:sp>
          <p:nvSpPr>
            <p:cNvPr id="58" name=""/>
            <p:cNvSpPr/>
            <p:nvPr/>
          </p:nvSpPr>
          <p:spPr>
            <a:xfrm>
              <a:off x="3060720" y="115920"/>
              <a:ext cx="863640" cy="863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9280" y="4292640"/>
              <a:ext cx="863640" cy="863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90920" y="547560"/>
              <a:ext cx="0" cy="424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26920" y="4292640"/>
            <a:ext cx="863640" cy="863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472428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547560"/>
            <a:ext cx="0" cy="424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53640" y="21448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547560"/>
            <a:ext cx="0" cy="424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16720" y="189000"/>
            <a:ext cx="865080" cy="5040360"/>
            <a:chOff x="6516720" y="189000"/>
            <a:chExt cx="865080" cy="5040360"/>
          </a:xfrm>
        </p:grpSpPr>
        <p:sp>
          <p:nvSpPr>
            <p:cNvPr id="67" name=""/>
            <p:cNvSpPr/>
            <p:nvPr/>
          </p:nvSpPr>
          <p:spPr>
            <a:xfrm>
              <a:off x="6518160" y="189000"/>
              <a:ext cx="863640" cy="863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6720" y="4365720"/>
              <a:ext cx="863640" cy="863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8360" y="620640"/>
              <a:ext cx="0" cy="424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885080" y="620640"/>
            <a:ext cx="0" cy="424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74520" y="1484280"/>
            <a:ext cx="97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⅔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67560" y="47959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81960" y="3213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81960" y="5475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27080" y="3441600"/>
            <a:ext cx="97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⅓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3070080"/>
            <a:ext cx="285840" cy="285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8880" y="285264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63817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11280" y="5445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20560" y="593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" y="486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50920" y="2134440"/>
            <a:ext cx="8641800" cy="1481760"/>
            <a:chOff x="250920" y="2134440"/>
            <a:chExt cx="8641800" cy="1481760"/>
          </a:xfrm>
        </p:grpSpPr>
        <p:sp>
          <p:nvSpPr>
            <p:cNvPr id="83" name=""/>
            <p:cNvSpPr/>
            <p:nvPr/>
          </p:nvSpPr>
          <p:spPr>
            <a:xfrm rot="16200000">
              <a:off x="251280" y="2133720"/>
              <a:ext cx="1479600" cy="14806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7412400" y="2135880"/>
              <a:ext cx="1479600" cy="14806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1080" y="2876760"/>
              <a:ext cx="728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5190840" y="2631600"/>
            <a:ext cx="490680" cy="490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870800" y="349272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971640" y="378936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-181080" y="3791160"/>
            <a:ext cx="1008360" cy="998640"/>
            <a:chOff x="-181080" y="3791160"/>
            <a:chExt cx="1008360" cy="998640"/>
          </a:xfrm>
        </p:grpSpPr>
        <p:sp>
          <p:nvSpPr>
            <p:cNvPr id="90" name=""/>
            <p:cNvSpPr/>
            <p:nvPr/>
          </p:nvSpPr>
          <p:spPr>
            <a:xfrm rot="16200000">
              <a:off x="-31320" y="3641760"/>
              <a:ext cx="709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640" y="3855960"/>
              <a:ext cx="21600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187920" y="41770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877080" y="984600"/>
            <a:ext cx="1008360" cy="998280"/>
            <a:chOff x="6877080" y="984600"/>
            <a:chExt cx="1008360" cy="998280"/>
          </a:xfrm>
        </p:grpSpPr>
        <p:sp>
          <p:nvSpPr>
            <p:cNvPr id="94" name=""/>
            <p:cNvSpPr/>
            <p:nvPr/>
          </p:nvSpPr>
          <p:spPr>
            <a:xfrm rot="16200000">
              <a:off x="7026480" y="835200"/>
              <a:ext cx="709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65800" y="1049400"/>
              <a:ext cx="21600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7383240" y="150984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8101080" y="62064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1:19:21Z</dcterms:created>
  <dc:creator>lg</dc:creator>
  <dc:description/>
  <dc:language>en-US</dc:language>
  <cp:lastModifiedBy>lg</cp:lastModifiedBy>
  <dcterms:modified xsi:type="dcterms:W3CDTF">2005-09-19T23:56:59Z</dcterms:modified>
  <cp:revision>4</cp:revision>
  <dc:subject/>
  <dc:title>Slide 1</dc:title>
</cp:coreProperties>
</file>