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89F-2A55-45A0-9180-28CCB944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B59-229B-4BD2-8EDB-F486AC08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BBD-CC04-49A4-A88F-F8F792BF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E70-6BD3-4295-8975-B6256E01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1D6-AD73-4FB1-BB3C-3F586BC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8F6-5CAA-4C60-BD57-8120EAC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C3F-7501-4751-AEF7-CC405767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051-0627-4F73-B1E1-29D0682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26-4280-42BD-8CDC-845F2D5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365-EC7E-4AFC-BE2B-FC453A9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99B-3917-48E6-8016-3FF12A9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DE9-EC39-4823-B87A-101DFA6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B13-7432-4ABC-969A-4ACF6EF6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22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45164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492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1796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56000" y="2492280"/>
                <a:ext cx="8143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22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1796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0920" y="2492280"/>
                <a:ext cx="8143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11600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8080" y="4869000"/>
                <a:ext cx="961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54320" y="4653000"/>
                <a:ext cx="10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70560" y="4653000"/>
                <a:ext cx="103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67640" y="2492280"/>
                <a:ext cx="9619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62320" y="1355760"/>
                <a:ext cx="2590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1128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1417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3139920"/>
            <a:ext cx="1441440" cy="1441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2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2656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73000" y="4869000"/>
                <a:ext cx="962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22680" y="4653000"/>
                <a:ext cx="1035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586560" y="4653000"/>
                <a:ext cx="103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40040" y="2492280"/>
                <a:ext cx="1036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812000" y="2492280"/>
                <a:ext cx="962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981680" y="386064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26080" y="2492280"/>
                <a:ext cx="11840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1:31:00Z</dcterms:created>
  <dc:creator>joao da silva</dc:creator>
  <dc:description/>
  <dc:language>en-US</dc:language>
  <cp:lastModifiedBy>joao da silva</cp:lastModifiedBy>
  <dcterms:modified xsi:type="dcterms:W3CDTF">2005-08-29T21:38:44Z</dcterms:modified>
  <cp:revision>2</cp:revision>
  <dc:subject/>
  <dc:title>Slide 1</dc:title>
</cp:coreProperties>
</file>