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30BB-F79F-472E-B028-B509F728E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D930-48D1-4985-81F0-CAFC380B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63D5-AD31-45D4-9824-4F4D8FA4C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A5D4-0029-494F-A36D-3B059D36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6384-9B03-4724-8267-59C1FFF9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985C-9EB4-4C5A-BA4B-46E02B3A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F077-F238-4A58-89C2-E951CEBD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ACBF-11F4-47DA-AF8F-01CF2573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4EC0-7E61-4714-9F93-C5490810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CC39-F0D2-4242-A499-097C877A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9062-1BE9-4DA1-BDB0-5E5A617A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0649-214B-49B7-BA71-A371C01F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3623-523F-4114-B592-B7E31FF9A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0920" y="1008000"/>
            <a:ext cx="8784720" cy="4656960"/>
            <a:chOff x="250920" y="1008000"/>
            <a:chExt cx="8784720" cy="4656960"/>
          </a:xfrm>
        </p:grpSpPr>
        <p:sp>
          <p:nvSpPr>
            <p:cNvPr id="42" name=""/>
            <p:cNvSpPr/>
            <p:nvPr/>
          </p:nvSpPr>
          <p:spPr>
            <a:xfrm>
              <a:off x="606600" y="2162160"/>
              <a:ext cx="1596240" cy="1596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rot="18900000">
              <a:off x="7259400" y="1629720"/>
              <a:ext cx="1064160" cy="1064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6283080" y="4380480"/>
              <a:ext cx="1064160" cy="1064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3871080" y="1305000"/>
              <a:ext cx="1629360" cy="2452680"/>
              <a:chOff x="3871080" y="1305000"/>
              <a:chExt cx="1629360" cy="2452680"/>
            </a:xfrm>
          </p:grpSpPr>
          <p:sp>
            <p:nvSpPr>
              <p:cNvPr id="46" name=""/>
              <p:cNvSpPr/>
              <p:nvPr/>
            </p:nvSpPr>
            <p:spPr>
              <a:xfrm>
                <a:off x="3889080" y="2161800"/>
                <a:ext cx="1595520" cy="1595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2700000">
                <a:off x="4109400" y="1543680"/>
                <a:ext cx="1152360" cy="1152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6639480" y="1008000"/>
              <a:ext cx="2396160" cy="1154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250920" y="1185840"/>
                  <a:ext cx="2306160" cy="62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701800" y="2320560"/>
              <a:ext cx="625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6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19200" y="2322360"/>
              <a:ext cx="625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6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4339080" y="1185840"/>
                  <a:ext cx="69444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7331760" y="1185840"/>
                  <a:ext cx="73116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694800" y="4187160"/>
                  <a:ext cx="1447200" cy="104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 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3889080" y="4177080"/>
                  <a:ext cx="1595880" cy="106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6" name=""/>
            <p:cNvSpPr/>
            <p:nvPr/>
          </p:nvSpPr>
          <p:spPr>
            <a:xfrm>
              <a:off x="2736000" y="4024800"/>
              <a:ext cx="625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6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7048440" y="4091040"/>
                  <a:ext cx="1630800" cy="98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8" name=""/>
            <p:cNvSpPr/>
            <p:nvPr/>
          </p:nvSpPr>
          <p:spPr>
            <a:xfrm>
              <a:off x="6019200" y="4026240"/>
              <a:ext cx="625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6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3T01:02:19Z</dcterms:created>
  <dc:creator>joao da silva</dc:creator>
  <dc:description/>
  <dc:language>en-US</dc:language>
  <cp:lastModifiedBy>joao da silva</cp:lastModifiedBy>
  <dcterms:modified xsi:type="dcterms:W3CDTF">2005-08-13T01:23:59Z</dcterms:modified>
  <cp:revision>3</cp:revision>
  <dc:subject/>
  <dc:title>Slide 1</dc:title>
</cp:coreProperties>
</file>